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B8D-8715-46C4-82E5-D1BB96DB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18D-A9D4-4D4D-AB6A-2F787E08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1D5-70B7-4A7B-8A9D-D12351DB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960-EB0B-4ACB-8779-ED622292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9D4-AAE2-4190-848A-DA2D31FB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9CE-A4F2-4CF1-BC57-14134BD4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E37-9628-4358-9A10-7BA31AB0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365-24A2-45EF-B3C6-CFDAF8E5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526-0CEB-4467-8E08-92A167DD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11A-1966-4504-9EB8-B6BB285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9E6-4764-4981-B699-CCBA1BB0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38D-6AA7-4B1B-9DC5-24FA1A7D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80E5-0365-4B13-8716-56602ACF3B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نتم الذين اعتمدتم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في المسيح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قد لبستم المسي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35280" y="0"/>
            <a:ext cx="370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ميعكم أبناء الله بالإيمان ب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941360"/>
            <a:ext cx="91440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ما تعلمون أن أجسادكم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ي هيكل الروح القد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جِّدوا اللهَ واحملوه في أجسادك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2:41:40Z</dcterms:created>
  <dc:creator>Charbel Azar</dc:creator>
  <dc:description/>
  <dc:language>en-US</dc:language>
  <cp:lastModifiedBy>-</cp:lastModifiedBy>
  <dcterms:modified xsi:type="dcterms:W3CDTF">2003-01-12T16:24:48Z</dcterms:modified>
  <cp:revision>5</cp:revision>
  <dc:subject/>
  <dc:title>نحن الذين اعتمدنا فيك أيّها المسيح، إحفظنا في ثوب ضيائك المجيد </dc:title>
</cp:coreProperties>
</file>